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A54-3D90-4A0E-827B-2E47085A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14C-BED5-40AE-BD90-97B30986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643-0BD4-4350-B79A-09F3E271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85F-CFCC-40D0-B5AB-5AF795D1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1A0-F402-4CA4-B699-4F7AE763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D64-7CEE-44D9-B09B-9AA3795D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51A7-FC41-48FE-9DCD-A60DB19B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FFE-A537-45B3-BF86-57658065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82E-FF33-4A6C-8716-ABB45904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99A-85C9-4507-9CC9-12A0E225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31B-4C14-482A-81D3-0EFC442E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BFD-2796-4E96-8265-F92685EA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6134-69D9-47A2-A913-FC3BC86776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degra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50160" cy="4584960"/>
          </a:xfrm>
          <a:prstGeom prst="rect">
            <a:avLst/>
          </a:prstGeom>
          <a:ln w="0">
            <a:noFill/>
          </a:ln>
        </p:spPr>
      </p:pic>
      <p:sp>
        <p:nvSpPr>
          <p:cNvPr id="78" name="Rechteck 5"/>
          <p:cNvSpPr/>
          <p:nvPr/>
        </p:nvSpPr>
        <p:spPr>
          <a:xfrm>
            <a:off x="1042920" y="5877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Eine wachsende Bevölkerung kann sich den Verlu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fruchtbaren Bodens nicht leis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Gerade Verbindung 6"/>
          <p:cNvSpPr/>
          <p:nvPr/>
        </p:nvSpPr>
        <p:spPr>
          <a:xfrm>
            <a:off x="5940360" y="2492280"/>
            <a:ext cx="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Gerade Verbindung 8"/>
          <p:cNvSpPr/>
          <p:nvPr/>
        </p:nvSpPr>
        <p:spPr>
          <a:xfrm>
            <a:off x="7164360" y="2492280"/>
            <a:ext cx="0" cy="252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Gerade Verbindung 10"/>
          <p:cNvSpPr/>
          <p:nvPr/>
        </p:nvSpPr>
        <p:spPr>
          <a:xfrm>
            <a:off x="5940360" y="249228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Gerade Verbindung 12"/>
          <p:cNvSpPr/>
          <p:nvPr/>
        </p:nvSpPr>
        <p:spPr>
          <a:xfrm>
            <a:off x="5940360" y="335772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Gerade Verbindung 14"/>
          <p:cNvSpPr/>
          <p:nvPr/>
        </p:nvSpPr>
        <p:spPr>
          <a:xfrm>
            <a:off x="5940360" y="422100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Gerade Verbindung 16"/>
          <p:cNvSpPr/>
          <p:nvPr/>
        </p:nvSpPr>
        <p:spPr>
          <a:xfrm>
            <a:off x="5940360" y="5084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Gerade Verbindung 19"/>
          <p:cNvSpPr/>
          <p:nvPr/>
        </p:nvSpPr>
        <p:spPr>
          <a:xfrm>
            <a:off x="3419640" y="580536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Gerade Verbindung 21"/>
          <p:cNvSpPr/>
          <p:nvPr/>
        </p:nvSpPr>
        <p:spPr>
          <a:xfrm>
            <a:off x="5940360" y="5805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Gerade Verbindung 23"/>
          <p:cNvSpPr/>
          <p:nvPr/>
        </p:nvSpPr>
        <p:spPr>
          <a:xfrm>
            <a:off x="3419640" y="638172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Gerade Verbindung 25"/>
          <p:cNvSpPr/>
          <p:nvPr/>
        </p:nvSpPr>
        <p:spPr>
          <a:xfrm>
            <a:off x="7164360" y="501336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Gerade Verbindung 34"/>
          <p:cNvSpPr/>
          <p:nvPr/>
        </p:nvSpPr>
        <p:spPr>
          <a:xfrm>
            <a:off x="8388360" y="3357720"/>
            <a:ext cx="0" cy="86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Gerade Verbindung 36"/>
          <p:cNvSpPr/>
          <p:nvPr/>
        </p:nvSpPr>
        <p:spPr>
          <a:xfrm>
            <a:off x="8388360" y="5084640"/>
            <a:ext cx="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Gerade Verbindung 41"/>
          <p:cNvSpPr/>
          <p:nvPr/>
        </p:nvSpPr>
        <p:spPr>
          <a:xfrm>
            <a:off x="478800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Gerade Verbindung 43"/>
          <p:cNvSpPr/>
          <p:nvPr/>
        </p:nvSpPr>
        <p:spPr>
          <a:xfrm>
            <a:off x="341964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Gerade Verbindung 45"/>
          <p:cNvSpPr/>
          <p:nvPr/>
        </p:nvSpPr>
        <p:spPr>
          <a:xfrm>
            <a:off x="3419640" y="4221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Gerade Verbindung 47"/>
          <p:cNvSpPr/>
          <p:nvPr/>
        </p:nvSpPr>
        <p:spPr>
          <a:xfrm flipH="1">
            <a:off x="3419640" y="5084640"/>
            <a:ext cx="25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 – nachhaltige Entwick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112000" cy="511200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4"/>
          <p:cNvSpPr/>
          <p:nvPr/>
        </p:nvSpPr>
        <p:spPr>
          <a:xfrm>
            <a:off x="1908000" y="630864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Ute Stoltenberg, in Stoltenberg/ Thielebein-Pohl: KITA21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ir haben Boden gut zu mach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schutz in Deutschland und Euro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ndwirtschaftspolitik in Europ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nationaler Bodenschu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az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 verliere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Gerade Verbindung 7"/>
          <p:cNvSpPr/>
          <p:nvPr/>
        </p:nvSpPr>
        <p:spPr>
          <a:xfrm flipV="1">
            <a:off x="2916360" y="227628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 Verbindung 9"/>
          <p:cNvSpPr/>
          <p:nvPr/>
        </p:nvSpPr>
        <p:spPr>
          <a:xfrm>
            <a:off x="2916360" y="227664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ufga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lieren, 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Überprüfen Sie diese These 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ewerten Sie die Erfolgsaussich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timmen Sie die zu untersuchenden Syndrom-Beispie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Expertengruppen (,Forscherteam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nalysieren Sie das ausgewählte Syndrom-Beispiel (z.B. AB 1-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in Anlehnung an das ‚Globale Beziehungsgeflecht‘ (M2/AB-0) ein Wirkungsgefüge zum ausgewählten Syndrom-Beispiel (z.B. als Wandplakat/ Folie/ DIN A4-Skizze für Visualize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rbeiten Sie mithilfe von geeigneten Karten (z.B. Terra 2010, S. 206/12, Atlas) weitere Regionen heraus, in denen das ausgewählte Syndrom möglicherweise auftrit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chreiben und begründen Sie mögliche Prognosen für einen möglichen weiteren Syndrom-Verlau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eigene Handlungskonzepte mit dem Ziel eine weitere nicht nachhaltige Syndrom-Entwicklung zu vermeid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, evtl. Lehrkraft als Bundeskanzler/-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zum Hinterfragen, Steuern des Ablau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Präsentieren Sie die Ergebnisse der Expertenteams (pro Expertenteam ca. 5-7 Min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örtern Sie die Realisierbarkeit, Chancen bzw. Probleme  der vorgeschlagenen Lösungsansätze. (pro Expertenteam ca. 5-7 Min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nennen Sie in einem kurzen Diskurs die für Ihr Lebensumfeld wichtigsten Handlungskonzepte und ordnen Sie diese gemäß ihrer Dringlichkeit (kurz-, mittel-, langfristig, ca. 5-7 Min.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Formulieren Sie eine Handlungsempfehlung an die Bundesregierung. (evtl. Lehrkraft als Bundeskanzler/-in  Hausaufgab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(5.evtl. mit Protokollant/-in (‚Presse‘) und Kamera- Dokument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alibri"/>
              </a:rPr>
              <a:t>Boden aktu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073240" y="1600200"/>
            <a:ext cx="49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4"/>
          <p:cNvSpPr/>
          <p:nvPr/>
        </p:nvSpPr>
        <p:spPr>
          <a:xfrm>
            <a:off x="3635280" y="6093000"/>
            <a:ext cx="482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(Quelle: Population Reference Bureau, 2011 in Stiftung Weltbevölkerung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97080" cy="28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059280" y="2565360"/>
            <a:ext cx="5670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91600" cy="480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 footpr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6"/>
          <p:cNvSpPr/>
          <p:nvPr/>
        </p:nvSpPr>
        <p:spPr>
          <a:xfrm>
            <a:off x="611280" y="6237360"/>
            <a:ext cx="763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feld 8"/>
          <p:cNvSpPr/>
          <p:nvPr/>
        </p:nvSpPr>
        <p:spPr>
          <a:xfrm>
            <a:off x="395280" y="6093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Sustainable Europe Research Institute (SERI),20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feld 5"/>
          <p:cNvSpPr/>
          <p:nvPr/>
        </p:nvSpPr>
        <p:spPr>
          <a:xfrm>
            <a:off x="3059280" y="4797360"/>
            <a:ext cx="58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Effektive Land-Nachfrage in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Deutschland ( 82 Mio. E. )</a:t>
            </a: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Ø 1,2 ha p.P./ Ø 103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China (1,3 Mrd. E. ) 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4 ha p.P. /Ø 518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ien ( 1,1 Mrd. E.)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2 ha p.P./Ø 200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lächenverfügbar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3640" y="1341360"/>
            <a:ext cx="310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50 werden nur noch 0,15 ha pro Person verfügbar sein (FA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25 werden ca.740 Mio. Menschen von Landknappheit betroffen se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mer mehr Menschen steht immer weniger Ackerfläche zur Verfüg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5330880" cy="3301920"/>
          </a:xfrm>
          <a:prstGeom prst="rect">
            <a:avLst/>
          </a:prstGeom>
          <a:ln w="0">
            <a:noFill/>
          </a:ln>
        </p:spPr>
      </p:pic>
      <p:sp>
        <p:nvSpPr>
          <p:cNvPr id="56" name="Textfeld 6"/>
          <p:cNvSpPr/>
          <p:nvPr/>
        </p:nvSpPr>
        <p:spPr>
          <a:xfrm>
            <a:off x="3708360" y="4581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Dt. Stiftung Weltbevölkerung, 1999, Population Action International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8"/>
          <p:cNvSpPr/>
          <p:nvPr/>
        </p:nvSpPr>
        <p:spPr>
          <a:xfrm>
            <a:off x="2484360" y="551664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Böden sind global unter Dr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wirtschaftliche Nutz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37,7% der weltweiten Landfläche, d.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4,9 Mrd. ha gelten als landwirtschaftliche Nutzflä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69,4 %, d.h. 3,4 Mrd. ha sind Dauergrü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28,6 %, d.h. 1,4 Mrd. ha sind Ack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0,9%, d.h. 152 Mio. ha sind permanente Ackerkultu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3"/>
          <p:cNvSpPr/>
          <p:nvPr/>
        </p:nvSpPr>
        <p:spPr>
          <a:xfrm>
            <a:off x="6443640" y="5013360"/>
            <a:ext cx="18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FAOSTAT, 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755640" y="5589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Konkurrenz um Teller, Trog und T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Können alle Menschen noch satt werd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u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 Milliarde Menschen hungernd 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 MilliardenMenschen mit Mangel-und Fehlernäh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steigender Fleischkon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feld 8"/>
          <p:cNvSpPr/>
          <p:nvPr/>
        </p:nvSpPr>
        <p:spPr>
          <a:xfrm>
            <a:off x="900000" y="4221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Nahrungsbedar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+ 42% bis 2030 + 70% bis 20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feld 9"/>
          <p:cNvSpPr/>
          <p:nvPr/>
        </p:nvSpPr>
        <p:spPr>
          <a:xfrm>
            <a:off x="5580000" y="551664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FAOSTAT 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 – Planet 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280" y="1412640"/>
            <a:ext cx="4319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eigende Nachf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feld 4"/>
          <p:cNvSpPr/>
          <p:nvPr/>
        </p:nvSpPr>
        <p:spPr>
          <a:xfrm>
            <a:off x="3132000" y="234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lächenkonkur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feld 7"/>
          <p:cNvSpPr/>
          <p:nvPr/>
        </p:nvSpPr>
        <p:spPr>
          <a:xfrm>
            <a:off x="3419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tzungsdr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feld 8"/>
          <p:cNvSpPr/>
          <p:nvPr/>
        </p:nvSpPr>
        <p:spPr>
          <a:xfrm>
            <a:off x="324000" y="4437000"/>
            <a:ext cx="86407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Bodendegradi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d.h. Verlust von Bodenfunktionen 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odenleistu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abnehmende Bodenproduktivitä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feld 10"/>
          <p:cNvSpPr/>
          <p:nvPr/>
        </p:nvSpPr>
        <p:spPr>
          <a:xfrm>
            <a:off x="5219640" y="1484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grenztes Ange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feil nach links und rechts 11"/>
          <p:cNvSpPr/>
          <p:nvPr/>
        </p:nvSpPr>
        <p:spPr>
          <a:xfrm>
            <a:off x="4211640" y="1628640"/>
            <a:ext cx="865080" cy="287640"/>
          </a:xfrm>
          <a:prstGeom prst="leftRightArrow">
            <a:avLst>
              <a:gd name="adj1" fmla="val 50000"/>
              <a:gd name="adj2" fmla="val 49944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feil nach unten 12"/>
          <p:cNvSpPr/>
          <p:nvPr/>
        </p:nvSpPr>
        <p:spPr>
          <a:xfrm>
            <a:off x="4427640" y="20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feil nach unten 13"/>
          <p:cNvSpPr/>
          <p:nvPr/>
        </p:nvSpPr>
        <p:spPr>
          <a:xfrm>
            <a:off x="4427640" y="2852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feil nach unten 14"/>
          <p:cNvSpPr/>
          <p:nvPr/>
        </p:nvSpPr>
        <p:spPr>
          <a:xfrm>
            <a:off x="4427640" y="38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7:17:22Z</dcterms:created>
  <dc:creator>GEO-Seminar Schmidt</dc:creator>
  <dc:description/>
  <dc:language>en-US</dc:language>
  <cp:lastModifiedBy>Manz</cp:lastModifiedBy>
  <dcterms:modified xsi:type="dcterms:W3CDTF">2012-11-08T13:11:50Z</dcterms:modified>
  <cp:revision>74</cp:revision>
  <dc:subject/>
  <dc:title>Boden aktuell</dc:title>
</cp:coreProperties>
</file>